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A7A-7182-409B-B00C-EB720784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228-DC4A-4219-861E-AC6D4568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563-5AE8-4239-B868-49330B97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269-6742-4240-8900-6A3A2710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EFAA-1C74-4350-8AE9-42F9EF6C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1D65-2B02-4131-92D6-4B6C826B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9CDA-E04B-4671-AD8A-A2C5343E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F00C-BDBE-476D-9B6B-823BBBDA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58FF-6CE4-4DC6-8085-649DC17F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EB5C-D3D3-462E-BEA2-EA215FDE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41E8-D4A3-4902-9724-8C01942E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9E8-B7D7-47DD-B3D2-D9A5CCD9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EBFE-9B37-45C2-B2D2-4AD7C409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07F8-8194-46F2-9750-75395102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0E40-BEBB-43CA-861C-A6DF73C4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03F6-A87F-40E5-A838-1FB7FB4D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3584-37A7-44D2-BFBF-488E373A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BE0-DDCF-42B8-BD87-E7D94147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EA6-64E1-4F1C-B8A5-29D982BC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B54-E05F-4C8A-937E-15EA30DC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1417-81BD-4FF7-879B-43BE7A46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B3DC-73ED-485C-BD76-31EA2166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EBB-9D43-4B3C-ADF9-DEB5AB9E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0BE-359C-4121-BC22-C1043E4F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3D36-62B6-478E-9EC1-518DCF32C2A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BA14-30D3-4AC1-87D6-6DDF4450418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ive Us A King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(The United Kingdom)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5, Lesson 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Kings 1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pg 107-110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ommand By Dav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Kings 1:28-3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s intentions – Solomon will indeed be Israel’s next king – 28-3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s instructions – anoint Solom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 is to ride in on David’s mu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nounce: “Long live King Solomon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rowning By Zad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Kings 1:38-40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igh Priest does exactly what David instruc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eat celebration among the people of Jerusal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onijah’s people hear the celeb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nathan, Abiathar’s son, brings the news to Adonija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ompassion of Solom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Kings 1:41-5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onijah fears for his lif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seeks refuge at the altar of the sacred 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asks for mercy from Solom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mon grants it as long as Adonijah remains loyal to hi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eation Stor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attering of the peo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atriarch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lderness Wande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quest of the 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ud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v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Solom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Brief Survey of the Life of Solom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Kings 1-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– David enthrones Solomon as King and crushes Adonijah’s rebell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– Solomon deals with the enemies of David and of his kingd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ree- The Lord’s appearing to Solomon and Solomon’s request for wisd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Brief Survey of the Life of Solom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Kings 1-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 – Description of Solomon’s offic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ve – Seven = The building of the temp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ight – Solomon’s prayer at the dedication of the temp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ine- Second appearance of God to Solom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Brief Survey of the Life of Solom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Kings 1-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n – Solomon’s wealth and fa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ven – Solomon’s marriages and falling away from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Brief Survey of the Life of Solom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 Chronicles 1-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lomon’s prayer for wisdom at Gibeon -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ilding the temple and dedication 2-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s of Solomon; more information on the temple – 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sit of the Queen of Sheba; Solomon’s wealth, and his death. -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Rebellion of Adonijah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Kings 1:1-5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vid is very frail at 70 y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dfast and dy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ursed by Abisha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onijah had plans to take the kingd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ttempts to crown himself k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ped by Joab and Abiathar the prie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s all to attend a great celebration/sacrifice at En-rog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410080" y="228600"/>
            <a:ext cx="3581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-rogel Spring: (Job's Well) This spring or well lay just outside the southern walls of Jerusalem, a little over 300 feet south of where the Hinnom and Kidron valleys join. It is today referred to as Job's Well. The name "En-rogel" means "fountain of a traveller" in the Hebrew. The well was used to mark the northern boundary of Judah (Josh. 15:7).  It was here that David's son Adonijah attempted to have himself proclaimed heir to David's throne (1 Kings 1:9).  In response, the prophet Nathan prompted Bathsheba to go to David to have him proclaim her son Solomon as king (1 Kings 1:11-1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3886200"/>
            <a:ext cx="762120" cy="228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3408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657600" y="2971800"/>
            <a:ext cx="914400" cy="5335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876920" y="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334120" y="24382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nnom Valley from Mount Z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ounterplot By Nath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Kings 1:11-2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than meets with Bathsheba to counter Adonijah’s plan. 11-2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than meets with David – 22-2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6:24:46Z</dcterms:created>
  <dc:creator>Terry W. Benton</dc:creator>
  <dc:description/>
  <dc:language>en-US</dc:language>
  <cp:lastModifiedBy>Frank D Vines</cp:lastModifiedBy>
  <dcterms:modified xsi:type="dcterms:W3CDTF">2005-07-31T04:41:00Z</dcterms:modified>
  <cp:revision>5</cp:revision>
  <dc:subject/>
  <dc:title>Give Us A King (The United Kingdom)</dc:title>
</cp:coreProperties>
</file>